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FFF-64E1-4718-B913-E854E336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0A4-2E96-4727-9234-BDAA49E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2F7A-120E-4D18-883F-EE25B6DD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1691-332C-4C05-A169-1CADCB0A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9FDA2-6BCA-4B3A-9B56-C70663EC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B3CF-FDCB-4B67-8F9B-43DF6C5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8D496-3FA8-48B9-93C8-8B53BA5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3C6D1-797D-4C7F-9B32-C1170EC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62616-C749-4603-AA67-4E6228B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6472F-85C8-4E0E-94B4-ADA3A12F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D5F1A-F49D-45D2-978F-3401C449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835D1-8DE1-43CE-9FDF-390BAB71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62E-DB26-422A-B4F9-F3638D1D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7AB31-2425-43C9-AC25-480B458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9A7F8-53B2-4762-A390-12D60CB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9208A-4F6D-462C-9A6E-86972579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4F1B-5DCB-41D4-B45A-E648A94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C04AA-6667-4678-8DD8-178C135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4A46C-EF34-4D97-82C6-3B4D59A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66BFD-BF6F-4D48-88DE-5A680F6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954B3-48E1-4393-B5EF-AEDFE4B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574C8-E0CA-43F7-9C58-84488203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18094-FC15-4FD0-8290-1FBA31F2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401-84D0-45DD-A1B9-D66D590C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CB37A-4926-4496-9F27-1580AB8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EF33A-F231-455C-9903-A9DCCFD1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1880F-D0EE-4D09-A1FD-B50CBDF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90169-E83C-40AE-8A50-8693D9C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A181D-7177-45F1-A087-D1812E7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A88DF-742B-4EBA-A25E-FEDE8A57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41AB-0BAF-47F6-9C82-498FFF5E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0ECC-5178-4D61-B5CC-98C8F3A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F873-277D-4E25-BD6E-B4C7DF1C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1535-CCA8-4959-B5EF-EB93F38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69A-C751-4866-8D93-C345CB75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D96C5-347B-480A-8DFC-BA2C81F2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EA56D-4DD7-441E-953D-12D716F8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12D9E-1631-448E-9A48-11609C6A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03969-1734-4A4A-B1B8-D03EE293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BDA45-B732-416E-9B31-EBB4639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76945-1B62-4979-8B9B-9B207A2E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BD9E1-0F4A-4AC6-9039-31C174D9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06D31-39F0-4C34-9E45-CED51D7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45C48-F94E-4D8D-BD08-D04DB85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235E5-E756-47B9-B3B0-24D3C9E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A5FE-C065-48EF-A6B6-1B0B062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1B56F-0CC2-4697-B104-AEBED44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9ED67-205D-4449-B2BD-5AF78B7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96450-5704-4009-8B1D-CCDA0E34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3BB02-5B55-4B06-A9B8-18304723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5F6B5-06FE-4D95-8ADB-09D0AC31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13F5C-6A1A-4E19-9AA1-115B9C82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8849-3590-4C1B-85FA-8FFEC300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51051-DC35-40A1-B54C-81B9DD3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8AC00-F680-446C-9950-8CFEF99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4C223-F755-4CA1-BF3C-DCA20D1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57C-C7F3-49DF-8128-BEE6C5B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68AE6-B958-4A6F-9DA1-0FCED89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82D13-0BB2-4EBD-BD07-AEA752F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B2961-2512-4FC0-A36D-B799358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5DD1D-C9C4-4239-A87C-49BFA16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D62D2-4D15-4ADC-BBB9-513DB1A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6B694-BFBA-4703-8E14-ACC5CC15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404D1-51F4-4675-A4DE-9307A5EF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34B79-98BD-4ACE-8C64-BD78E741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E5DA8-1180-45D6-9F38-72E2785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87047-F30D-45A6-BE15-1416DC3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2A55-0072-4F90-8464-56E2DD3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6B695-D59A-427E-80B7-0A88742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E78D1-63B8-44E3-A2D0-F79816B7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4C673-75F6-4CA9-81A2-E4EC6980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01139-3D55-4358-A338-E89F91F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86342-3642-4F3E-A2E1-CEB1B46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B8983-343D-4014-988D-27170EB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BDD37-EEAC-400E-A1B2-2A2B373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CF0D7-1903-4B7A-8AA2-D8C9CE1C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3AA8E-449E-4635-9269-D77A8B4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B8A27-E8C2-44EF-BA51-D49F12CA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3E6-1C66-45DF-A58A-28A375D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3CFEF-CE9D-4874-9CF8-180C8F76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4CC20-03DB-4581-9038-E692D28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EFD9E-ED75-4DBD-998F-2271C39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3D900-3D6B-48E6-8767-173592A0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3AF81-977B-4909-B4B9-C9F3257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21035-B754-4673-AB9E-D260B30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A55EA-DEEA-4C6D-A769-A09F0522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E8353-63D5-4B83-9F90-DDAF1D0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B3C20-5CAD-4903-8F7B-D5DBC69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BDFBF-905B-4730-94B9-572EA449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650B-CCD2-4FDF-BCE9-0BFAA42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653D8-01C5-4388-93E5-2AC6D0AC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22A08-CC92-4754-B498-F2967D1F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0E25E-5B9C-4AC7-902C-F328670A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C4869-15C9-4256-B535-73DA3D1B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E060E-6F2F-43B9-9BBD-B35AA16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15A6F-55B9-47F7-B13D-3368DCB0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78543-0CE8-466D-99CE-56FD5A39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27545-F175-44D6-987C-99FFFD53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63660-08CE-4886-A960-DAA64B4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F4E3C-38DA-4AD9-88D2-A305C1BC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FECC-E21E-4B7B-B96D-8E766B3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2FFEA-D83A-4049-B272-E5C056C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CCCE4-9FBF-4531-A533-A463024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5706F-47E3-4CC2-9D17-9B116CFA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DC24D-7824-4629-8B67-CA965CD3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5F8B4-E14C-46C5-B475-E3CB40B0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BDC73-1AB8-4D7A-8E71-A3A87E1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8621E-FA42-48F9-A609-489DB21E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19B2A-1B83-4FB8-BE53-07989317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78C0E-080A-4490-B971-339BCA8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C1D4E-A6B4-48ED-BBB2-8FFE9744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A0A-E4CE-4051-AD7F-C24BAACE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D5DF-C077-41B9-B1BF-C460655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97503-08FE-47E5-8E44-0AF9C82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FE7A7-A62A-4CC9-BE3F-C232274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2CDB9-D036-4122-B360-4B77630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A0F5D-AB9A-4180-8405-885E94FE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281AF-877E-4155-B69A-8B465E2B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2E891-F1E1-4FB8-9257-56034220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A4493-DDC6-4E2D-A55B-C4036504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4D4FF-D48D-4394-8C46-E3BECA21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D803E-ACAB-4ADA-80C8-801E63BE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4D04F-11AF-439D-8D69-9920510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1F0-58CE-4074-B331-C4B0F8F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D835B-DB6D-46E0-8F81-AD093B0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D321A-AB23-4218-ACCB-1566AE8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CC2C1-F2C7-4D70-84BE-F7619D4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D297A-43BE-45E9-A73E-0D096F7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523AA-AE61-4AC5-A606-8DFA3968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2150D-3D87-46CC-BF05-CDC24F5D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2AD16-1172-4B19-AAE0-2038A18E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826B7-E616-43FC-9580-72CA3C09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C1233-B79D-4C2D-BAB4-D613920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397FC-C287-4909-B5EE-3AC845F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D85-2057-4A18-91FB-6F20D8C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F4541-0A4F-402F-BEC9-9D92EDCF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AAF3B-40F0-4FC9-B23A-30FC997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0C416-E9AE-40BB-A18C-C620BFB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926DD-F07E-4D28-8BAA-530BE71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D7E79-4B19-4129-8A9A-5BAAC08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161CA-3FBC-4D4D-8302-BCAA927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EB11D-2F67-4C9F-BC62-5B79D7D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BB5A0-6688-46C2-B9D3-036C9A4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ACFD2-2904-4B0E-BBC6-8DBD9EBD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02520-726C-474D-BD4F-D1FAF4B7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A1CF-85F9-4B85-821A-63594F19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C518A-541D-455C-81ED-1C8FBE3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63B6A-FD47-4F0C-ADD3-6F4CD970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6E726-63EF-422A-BFBA-3C696A0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BB640-4659-4CA9-8442-F3613363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89699-53A0-44D1-AD78-AA1F96ED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191E3-66DD-4DE9-B3EC-C0E6CC7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CF275-473F-462B-BDF6-E84A6C7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F268A-40D6-4BDC-8255-F026FB3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6066C-8DD8-4038-89E1-BD547FCA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AF713-BC07-494B-B3C9-D9E1098E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D22A-2B3F-4BE1-8EE7-A6BBC3F2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F0BD2-3A8B-4EA7-9AD0-DD7F9C1F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C2952-203C-47D9-8F25-0E539AA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BB12E-641F-474F-ACE4-CC7863EB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F8D76C-B7F3-464E-8D71-41F0A928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D610B-D7C1-4E83-B674-7655E70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89251-99A1-4800-8EEB-2955F83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0C894-9D7B-4FC4-8F5F-F789172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6ED97-8FD9-479C-A8EA-B239FBD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B4218-A82F-4F79-9A2A-CA71EAB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5C2C8-B29B-402B-825F-AA464A3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C042-CD11-4475-90A7-7F2E86B8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A1C9A-B8C4-4A6A-A55E-61FE154D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DCCEB-58D5-4B07-BDBF-0D4F255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7ECEF5-53FF-42B4-BC1A-3DC2C1D9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2954D-0928-4F42-8C27-D8F7C12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89224F-904E-4015-AE5C-7FD2C0E3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5CB48-8441-4FE1-91B1-95997C1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32DD4-61CA-4268-BE64-94EB2D11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D492A-2313-444C-BD35-A45A41FF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43ECB5-CFF1-4092-8D17-9F34ECA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6C4A5-422B-4B89-B094-D07DB24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7CD1-1262-481F-AAF7-A9DF807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E1EC9F-824B-4CC5-88D6-A43A123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4250C-878B-443C-B869-2E76A11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9AFA57-E9EE-4F3C-89D6-7CDC1C5C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D9FAA-F241-4B78-800F-B0FE12F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6CB0C-0A0B-4664-8F92-6BAAD1DE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5939D-46C4-4F09-A895-48A5315A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7FF44-C554-4CC2-8363-1B0F3D5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B4A1C-F8D4-4441-84D8-F5BABF2F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D539E-1EAC-438E-9BF7-47F4403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33D0C-1D79-4FCC-900C-6333126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CD68-F559-41A2-B336-44EA538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DF6FC4-24A1-4AF7-8465-20A967F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8A9FDE-FFA6-4D2F-B216-6FE7FA7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5B29F0-8E54-4FC7-8E54-8F0C325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0033B5-7D3A-484C-916D-A9BE266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AD6D6-492A-42EB-95D2-98A53C3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2F922-3D1D-4DA5-A5B5-CAB6F34E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7C7F9-61CB-4E9E-BA5D-D0C11283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881CD-49F9-47FF-8A2B-CDD197F7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1EC352-46B5-4C61-B7D6-A55F258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DE79E-91A9-4DD7-8F7D-33DBF68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CB3A-0E9C-4F96-A44A-7D8BB852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C11DC6-8057-499C-B684-3C718A19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0D3592-B397-445F-8E7A-852FAB84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DCC0E-C09A-4967-973E-CCF4655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13C9D-3B30-4382-B0DC-B3E9CBDC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BCB514-EB74-4E69-AA77-FC8B5BB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F93472-9AA9-4B16-9FDE-B6031CE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B4D4C8-8C28-4313-AADF-C9E15DE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E839A6-F6EF-4C5B-9C4D-6C0F3E56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62E045-D5A2-418E-9008-065CF393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236795-9850-4B25-811E-55C90891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4243-2435-4C5C-8C51-671B72C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AE0A05-C4FE-4DFF-A8E5-4CB3763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AEC2EE-CCDB-4C08-AF7F-44D69FE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C36947-3120-44AC-AB66-7477AFBE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7B1BB6-D969-4665-AA41-C46421C1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7486A7-C73A-4C25-AB5B-CB62CDD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29F922-6356-414E-A5E1-965595B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995228-8F64-4C9F-95F8-316F42B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F19BE1-BDF3-4A4D-BA3F-5A6507DC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FF646-43D4-4641-B41A-255A874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3E1F2E-0E1B-4CE8-844C-55A9F15E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F2B-7294-4A02-B2A6-B0D3889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4D98-414F-400F-A4DF-F3FD527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51237-D062-48E3-8042-B54DA0A1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901E71-2E39-4042-BD84-3FA978DA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17B221-FBBF-44C8-BE62-96397F5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DB11D7-83AD-473A-A061-AB08E68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D454D-3316-4856-9943-939DF13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757AC2-CD2C-404F-BCA6-5B87D25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4AD061-F196-49C8-B7D0-3A0242ED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70021F-C037-4B4D-83A8-1EF68D5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7911D-60B5-47E5-A1CD-A0A8900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50BCC9-DCEC-4804-BF53-44939F0E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D573-E9C7-4EA8-8A2D-D4AEFB0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53F46C-98C0-4469-BDB6-4D2F57E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4F9A0E-1853-44A1-A972-03FC7FA5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2F77BF-6522-432B-AE5E-740B71AC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6ABB79-E46B-43A4-8A8C-A2B3F258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16FF84-7D08-46D4-BF5F-FF503B0E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0B93F0-391B-4962-AFDF-C19601E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A927E0-4C36-4AB1-89F6-3162F7CE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CE8A7B-DCE0-4B8A-9EF5-8DEF85F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CA941E-F30E-4DE3-9C65-EAD435F4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D6C965-4B2B-41E0-8A04-8B5E95B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629F-A5C5-4F98-ABD0-C6A6A88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04441-633B-4984-9E33-DF2399D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1DBCEC-B235-4045-84CE-4F5F7FF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B7315C-CCE9-4575-8C88-34C6FEE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543878-E9DE-4DB4-A60B-83DE436C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6BD08C-EA5C-4CB4-B2D2-26F34D21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7E372C-86F9-46EF-A9EF-4B31AAD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24DA86-8C7D-4342-A343-C916E53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7FD93F-6FB4-4BBC-9DB4-9A6D040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2C6151-2DD3-41C7-B528-C6B0840D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B3B5AA-BF6F-41AF-AF6F-06F54A2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D222-6D0A-4F92-9447-B30AEF33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AC93B5-82C0-4C69-840D-EF61D5AB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D00159-40F2-4BD7-9ECD-E663E2D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93B769-F4DE-4EAE-865D-2DC6F0A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C824CF-3A42-4BCC-A220-6888BCD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5E108-AA0A-48A6-B4C0-C110E10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880044-8C99-41E2-92A5-93731B9E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9482AD-60D0-41D8-96AD-7B04D452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0EFED-E153-403C-9AEF-C9134B1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52EF4F-AD36-4CD4-8CEE-50F59AD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247B9-9C9A-4E0C-A5AD-845628D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C8A0-B3EA-43B0-90A6-E159B4D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5E3F2B-EBB3-4194-A7C2-6C5482DA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B7839C-37FD-4BB7-94A7-44F0850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34B6A6-762C-480E-A606-1E67237B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D20D70-BDDA-4AE7-B670-B710E19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34C3B0-E422-4F85-B220-ABF3DC6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722B71-87CE-4791-B240-BA35B0F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5DFC44-1AF6-465B-861F-688E95B2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B39182-5873-4357-BAFA-655CC33A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5EABF8-5260-4DC8-822B-8EB4DBE1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545C03-04CB-4916-BA9A-AE06279E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4849-F3F9-484C-8B17-73F3FA7E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18C669-F97B-47E2-B56C-74F45193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003E0E-6A81-4135-830A-9EF5DA3C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13CBDD-6C04-4B15-AB93-28BAC79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BE74AD-C98E-4A85-8650-912722F9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1C5078-8B3D-4B53-8347-7DC6591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D869F6-2941-4664-ABDE-44AECBC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CFEAB8-DEAB-42CB-8D59-B9F6882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C6D6DA-75BA-4E1F-B09D-3933784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A687F7-07AD-4139-B541-A025D70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8DA39D-402C-4467-9725-71560157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F160-86DD-4280-8144-E25682BD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EFF713-7CCA-4999-B6AA-C04F2B67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61BFC-00F2-4A17-B928-363B80D2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4B75A3-3EAC-49C8-B77E-8700167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1AB287-9570-49DD-AEA5-B9A8F4E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37D58B-8204-4202-B1B2-D086ACFB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30BA8B-52A2-46C4-9D58-29BAA24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ED3393-2581-4833-A2DB-CAA8CD8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90A81A-0EB8-4C13-B1DB-AFD0ADD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7F5AED-5A3F-4C29-A469-60084BD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ADF7AD-B277-40B8-B8A4-7C305F7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933D-7EA2-4A2D-ADFF-FB87F652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C883EC-1F53-4941-A64A-FAC72118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66DD17-7351-4D13-8140-3BE9000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2F7EF0-65E1-4B59-9AE4-575540EB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B223-F497-4FD6-91A4-7866F4E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5457-E7F3-4B92-91E4-5F237EC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9D7-AD3F-4C4C-A7D1-BF6298B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695E-5F1F-4AF8-B997-30BE220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26C8-50B1-4BEB-99B2-801CB9C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29CC-86ED-48C8-8ACF-EC63627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BEA4-12C6-4ED0-AB45-B56B287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F005-3C6F-4DAE-9AF7-DAD7D6A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695B-FE3F-41D5-811B-3DC04D8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6009-B80D-4BEE-8BC4-C66F9B9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C092-A20C-4266-B0B6-9169494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906E-C831-4917-9C4B-C5945022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F805-A017-4868-B5FF-64D379EE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89C-1817-452B-BCF7-11DF8F6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234E-96FF-4478-A38C-8723ED8B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8818-C827-4BD0-B135-4A761420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425F-978B-425F-A4AF-34970B0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1F098-F1D0-4740-8D97-F172E1F8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287C-1176-4C41-B6DB-E561BC7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7507-5191-40C6-A4CD-2B40A81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B08C-4BFF-47F1-B0D6-5A0A3AA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BBD9-3ABD-4D6C-AB73-6FD775B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072D-619E-4F86-A5F7-B210984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8DF4-8C90-4283-BCF2-4C38618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8F8-D2D1-488E-B335-EB0BFB0B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9FD66-E89F-4971-9515-66F8ECC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45E3-B5BA-4802-9681-2AAB5BE5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EFD5-C0F6-4783-989B-60FB0B1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A122-7258-41FB-BE52-5518C52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3171-CB98-4116-B355-6038477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35DC-AFB8-424F-83E0-87E5CB8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4AFA-1AB0-4838-9065-95E052C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E40E-F474-4579-8F4B-3B5D35F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50A4-7B36-4909-AE91-9C56BEE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7FFD-25C7-47C1-9541-7BFBF44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D9E-7AD8-455E-B019-8E31F49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9D94-3823-4AFD-81D0-00C1F7D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C6A5-CAF3-4FB3-9DE4-5552F16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53D2-F161-4A97-807A-F27B0DD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08AD-6615-4B17-B8E6-436C0533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4131-613A-40A2-891D-6BF7254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4DAE-DC79-4BAF-9ACF-97DFBEF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E2F0-347C-476F-8C69-188CC15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16DC-B0C7-4C54-A7FF-AAF1C77C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298A-2211-4264-A7FA-64501B1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F637-BA1D-4581-8FFA-F763D27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32C-3721-41A7-8EAD-99EA8846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5768-0125-49B4-BDF0-19499DE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0802-FD0C-4210-94C7-DE22644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8A4C-8A7C-4397-8708-D0D0430E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A46C-45F5-4B9A-B913-9125B80E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2587-9A11-4F8A-9994-B327313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4440-5167-42E8-A602-2EF1FD96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2F2C-E885-4150-A778-AEAB415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663E4-46A4-4832-B97A-088DFE2A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5BBC5-D64A-4F40-9AA5-BAD32F4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3ACFE-C2D8-4EDD-BDA1-17F175C7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437-9EDF-48D4-9E0F-E3F44FA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69EE-D199-4B1F-AD10-2B1E6D4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7D0D9-F5F0-4136-BB2A-49CDDD8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ABA0-5A9B-40D1-BDB3-281D88C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FD486-8D50-457B-9FDB-9EC931B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D14E-D58F-4194-A8EB-666A1D1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CCDE-23F3-44B4-82E4-B019E787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E52D-0443-447D-95E8-37C53A83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76EC5-EC2D-414B-81C7-531623E2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E3B6C-7B4F-414A-91E7-A551E9E3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220F4-19BB-4E65-86D7-2C86C690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8F6-49AE-4CB4-8532-1CAEC2E1F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F50-EB18-4385-990A-2564AFA0FC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781-C6A9-4D53-A844-2B1BF2A1EA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314-EA0D-4786-BDBA-1D56DF311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27F-59A5-45E4-A54A-1312E3A319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4CB-576A-4F0D-B271-705430F9A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4447-BB0F-4EBE-966C-C43C8222E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66EB-E5E2-4909-A9C8-D99D7B4F9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E62-AE83-49B1-BA3A-1D20676A6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E01-D416-4A6F-91BD-700B5908F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2AF-87B2-49EA-B477-D14EBC9EA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CB6-4B4E-4320-8B75-B81E58F4F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633-AE61-4758-93FF-2E24B43BAC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D6CE-B12B-4EDC-BBF2-B27A794C2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E2F-0058-4D19-8499-4C7517A1C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F47-816F-4782-978C-D2A6F51F3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103D-195E-45DA-95EB-AEFAD9A4D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9675-3B46-4F64-8799-ADE876652C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24E3-AC6B-44D0-AB34-5DC17B46FE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23F2-69A7-4203-97C3-BB464832A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C32-84C2-4E0D-A999-C5BCE423B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5081-E434-4F0C-B849-C8E50542E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2CE-F67C-45C5-AC78-64C00A3B93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AF7-6F8F-4420-B306-6450BC5EA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2CE-3BFE-4279-836F-EA65360D1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F614-33E0-4465-A1CB-FB82549F22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8A2-1D98-4B3F-B8D0-222007165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CDB-81AB-4EEC-A028-418C6CC27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8E6-19D0-4DBD-A143-5AD97E7BF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89F-A2AE-4080-8BF6-B372C27EC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C56-9AAB-48BC-B318-07CD09445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70B8-B40F-4462-9537-786F99EF6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918-C072-4DF1-AE39-E19B5DA97E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5D5-33E5-47FB-B77F-A9C8840A8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64C-4F1F-47F2-B67A-A2421C137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DC4-F997-408F-8FB6-0509C6F3F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920-1A7C-4F79-8942-0DDD4838D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EF0B-9904-4289-90F0-AD3400FEF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EC4-7CCA-4C61-B673-DD1E03171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F85-E74A-4A26-89A3-02D8C24966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555-81F4-4EC8-842B-C7B445DA1B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2E5-124D-4E55-9FD8-A086E5B2A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C2C-0B1F-45A3-B169-1B9DFE82B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A19-078F-46C2-BD5C-61B775C17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FEE-89DC-4933-8D64-C2A3D8D47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7FF-2FC1-4BC5-8A32-C20EC9471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82E-A612-4404-BCE4-A21EFE606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061-889F-45CF-864D-5E84A1D3B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786-6C46-4286-B2EA-9223F3F97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6533-EEBD-4FB7-9027-91D19D1170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238720" cy="10288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2990880" cy="8668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6362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6737" descr=""/>
          <p:cNvPicPr/>
          <p:nvPr/>
        </p:nvPicPr>
        <p:blipFill>
          <a:blip r:embed="rId1"/>
          <a:stretch/>
        </p:blipFill>
        <p:spPr>
          <a:xfrm>
            <a:off x="433440" y="1071720"/>
            <a:ext cx="8277120" cy="47145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6738"/>
          <p:cNvSpPr/>
          <p:nvPr/>
        </p:nvSpPr>
        <p:spPr>
          <a:xfrm>
            <a:off x="7812000" y="1844640"/>
            <a:ext cx="4780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58040" cy="47815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5714"/>
          <p:cNvSpPr/>
          <p:nvPr/>
        </p:nvSpPr>
        <p:spPr>
          <a:xfrm>
            <a:off x="2244600" y="3903840"/>
            <a:ext cx="36226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5715"/>
          <p:cNvSpPr/>
          <p:nvPr/>
        </p:nvSpPr>
        <p:spPr>
          <a:xfrm>
            <a:off x="1393920" y="4551480"/>
            <a:ext cx="9460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5716"/>
          <p:cNvSpPr/>
          <p:nvPr/>
        </p:nvSpPr>
        <p:spPr>
          <a:xfrm>
            <a:off x="3032280" y="5097600"/>
            <a:ext cx="1611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4689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58040" cy="49435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4690"/>
          <p:cNvSpPr/>
          <p:nvPr/>
        </p:nvSpPr>
        <p:spPr>
          <a:xfrm>
            <a:off x="4226040" y="1173240"/>
            <a:ext cx="477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4691"/>
          <p:cNvSpPr/>
          <p:nvPr/>
        </p:nvSpPr>
        <p:spPr>
          <a:xfrm>
            <a:off x="4302000" y="3306600"/>
            <a:ext cx="41576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4692"/>
          <p:cNvSpPr/>
          <p:nvPr/>
        </p:nvSpPr>
        <p:spPr>
          <a:xfrm>
            <a:off x="1495440" y="3979800"/>
            <a:ext cx="9158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4693"/>
          <p:cNvSpPr/>
          <p:nvPr/>
        </p:nvSpPr>
        <p:spPr>
          <a:xfrm>
            <a:off x="2124000" y="5013360"/>
            <a:ext cx="1656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01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4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172360" cy="39718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6084720" y="1413000"/>
            <a:ext cx="243684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2883"/>
          <p:cNvSpPr/>
          <p:nvPr/>
        </p:nvSpPr>
        <p:spPr>
          <a:xfrm>
            <a:off x="1322280" y="2060640"/>
            <a:ext cx="12337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2884"/>
          <p:cNvSpPr/>
          <p:nvPr/>
        </p:nvSpPr>
        <p:spPr>
          <a:xfrm>
            <a:off x="3951360" y="3114720"/>
            <a:ext cx="24210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2885"/>
          <p:cNvSpPr/>
          <p:nvPr/>
        </p:nvSpPr>
        <p:spPr>
          <a:xfrm>
            <a:off x="5627520" y="3660840"/>
            <a:ext cx="2421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2886"/>
          <p:cNvSpPr/>
          <p:nvPr/>
        </p:nvSpPr>
        <p:spPr>
          <a:xfrm>
            <a:off x="2109960" y="4689360"/>
            <a:ext cx="2246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185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29600" cy="47721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1858"/>
          <p:cNvSpPr/>
          <p:nvPr/>
        </p:nvSpPr>
        <p:spPr>
          <a:xfrm>
            <a:off x="7667640" y="3357720"/>
            <a:ext cx="47772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0833" descr=""/>
          <p:cNvPicPr/>
          <p:nvPr/>
        </p:nvPicPr>
        <p:blipFill>
          <a:blip r:embed="rId1"/>
          <a:stretch/>
        </p:blipFill>
        <p:spPr>
          <a:xfrm>
            <a:off x="490680" y="1819440"/>
            <a:ext cx="8162640" cy="3219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0834"/>
          <p:cNvSpPr/>
          <p:nvPr/>
        </p:nvSpPr>
        <p:spPr>
          <a:xfrm>
            <a:off x="7956720" y="2349360"/>
            <a:ext cx="477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9809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248680" cy="274320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19810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7934400" cy="15238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9811"/>
          <p:cNvSpPr/>
          <p:nvPr/>
        </p:nvSpPr>
        <p:spPr>
          <a:xfrm>
            <a:off x="7667640" y="2708280"/>
            <a:ext cx="477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8785" descr=""/>
          <p:cNvPicPr/>
          <p:nvPr/>
        </p:nvPicPr>
        <p:blipFill>
          <a:blip r:embed="rId1"/>
          <a:stretch/>
        </p:blipFill>
        <p:spPr>
          <a:xfrm>
            <a:off x="533520" y="2481120"/>
            <a:ext cx="8076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7761" descr=""/>
          <p:cNvPicPr/>
          <p:nvPr/>
        </p:nvPicPr>
        <p:blipFill>
          <a:blip r:embed="rId1"/>
          <a:stretch/>
        </p:blipFill>
        <p:spPr>
          <a:xfrm>
            <a:off x="414360" y="1057320"/>
            <a:ext cx="8315280" cy="47433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17762"/>
          <p:cNvSpPr/>
          <p:nvPr/>
        </p:nvSpPr>
        <p:spPr>
          <a:xfrm>
            <a:off x="7812000" y="2781360"/>
            <a:ext cx="4780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0:34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